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jpeg" ContentType="image/jpe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9.jpeg" ContentType="image/jpeg"/>
  <Override PartName="/ppt/media/image13.jpeg" ContentType="image/jpeg"/>
  <Override PartName="/ppt/media/image18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4.png" ContentType="image/png"/>
  <Override PartName="/ppt/media/image10.png" ContentType="image/png"/>
  <Override PartName="/ppt/media/image35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ACCA-4CAA-4F70-A604-A2C44CCCF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3A61-41C2-4987-80FE-B134DDEAE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A7A3-A29F-40C1-9447-E03D44694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A6BC-5197-4315-A115-C7122B91C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A2A-8DF4-429D-B7BC-2966F13A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59DF-3B5F-4A5C-9B59-E4508DBBC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CA6C-C90D-4FD8-B34D-A69F92FF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20F2-C7D3-4AD3-B986-33C9A18FD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B69A-3757-4B51-A4BC-A4FD96B9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67A0-BCD6-46D2-BAF4-07BF539F6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C85C-B766-48BE-9E9F-4909544E0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E1EF-707C-4039-87B6-CF06F65AF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4F9C-46AA-4EBD-B8B7-B1EF2E362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609B-0995-471B-B89D-17D63D6A0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4DE9-3AFA-4562-935A-A23651F6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C365-A4E8-43A9-A661-4BA522147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C5A2-0283-4942-A9E5-EF480B2C2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277-64DC-49ED-A0E4-848FC613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B97F-95CA-463F-A79F-89C6BDBE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2D50-38C1-4E6B-B0B3-1B857B4F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95C2-1D37-4166-B180-61CC6569C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113-E8B7-4D79-A51F-2ADF31FF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1D9-322E-4D85-A721-1F049B9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39B-8A6E-41BE-B450-5A4DD4DF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885-1E3D-4663-B9D5-E7C544CC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CA46-1E3E-40A7-9B2F-E75897BC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F591-B7C5-4E36-B70E-BEE888C1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C961-4A29-4AD9-84C1-85588356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898E-2315-46E9-B3C5-3C290AF4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A68D-4E0C-40B2-A682-781B080B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A498-F903-43D8-8223-DE5FE2EC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F96A-9F12-4313-AD79-D7781498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67F-3B0D-44F1-BEEF-DDAED29C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8DCC-5980-4ECB-ADF5-EAAE0606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C314-40F7-478B-BA93-C0F14A7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02C6-131C-4763-80FE-7B09425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1589-B105-4C2F-840C-E6AE6063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8D19-7242-4A82-83E3-E73BB8AF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7890-26E6-4990-A87B-51865286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020E-A49A-430B-A2BB-8947F1E0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BA25-62F6-4DCA-94DA-9A2CA408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C61DA-4D7D-4126-98BC-A884F6AB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B72E-E606-473D-9BCA-805E19E3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B25-8533-4BEA-8DBE-D53187E4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AA97-C5E6-4799-8B60-2D1E5F00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23B9-7FC9-4692-8579-2ECF26F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4981-BB97-486B-B2B2-D979F99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58A5-606C-42B5-A5A7-B0934D89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E8B0-DBBF-410A-9569-F97A7FEF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49C2-3BE4-42FD-B634-7D0EEAFD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1D29-A0CD-4B88-86B3-A7D591D7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BA34F-8D94-4A35-A35E-CB316C9C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6ED3-8F85-462B-AA3F-E762BECE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1BF82-54E9-4A83-B465-0946ABD5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1A3-EAAD-4F22-98B4-F4578DA5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3709-DF96-4FE6-9A9D-F9ACFFBF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9B96-4A3C-4B3E-B586-27ED4A69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58333-45D3-4D1D-8CB6-C0EEDCE6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587A-C72C-49A6-A5BD-958D76B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5622-D82D-4C75-94F3-33E44BF1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4567-C606-4DED-BAC5-08ED3EE8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1BC2-1948-40DE-8F7A-9AC5DB1C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E6DB-FCAF-45DB-985D-52476CE0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ED4E-47EC-4C44-B196-005822CD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0C44-4AAB-4DB0-AEB1-3734CF7B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F83-7DA0-460D-8EA4-80DF1725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0A37-838B-4F62-91F5-21D3C676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23B9E-5A4D-436D-894B-4DAAF434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D8D99-4844-4AA3-98EF-70D58934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C4D92-8300-4FB7-B9B7-99F35F6F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49BCC-31A9-43E7-98A1-CCB66692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D9138-D954-46D2-B941-F061D7C7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5C5A6-FE51-4D41-8491-92DE07E9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81CA9-C6DE-439C-B208-B5653CF2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19845-7467-4005-8BDC-50949ECE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C0B6-9872-4AE3-ADBD-08C9FF74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15D-46D7-41FA-81C3-18FBA0DA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2A3D-DA4D-4A36-AA38-82DCF981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257F0-516E-4CAF-89BA-051E22EF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C63D2-F116-418B-A869-6BBEA25E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97CE5-1566-4A17-85B2-58ECEDA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55F0-E4E2-4DB8-8556-A6F66D1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21D3D-9600-43A5-B4F9-B56F6508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7F8AB-98E4-4A4C-8B3F-D152260D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176E5-D0DC-4DAE-9E7D-9E45DD47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4B12-C9BD-4461-84BF-D7FE4FF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B56A-252F-4C90-ADE3-B44E15E9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172-A0AC-487F-8F8E-8B9F7EE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36D72-8B46-4678-9DA2-80152223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BE525-5629-4DC1-822D-0CCF6985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E8BD-FAD1-43FA-99A8-8776CEAC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D1B-FDF5-45D0-AA7D-53A89429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108-A8F4-4F65-BEAB-BEE45D8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B63D-228C-413E-A2CA-9C0446D2BB1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D166-719E-4605-82B2-8BB45C6B9C1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24D0-71EF-4649-8C89-2FFE7D076FA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0609-2937-4A5B-8075-CDA5BB85EC66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DAA2-88D7-486D-859E-D57AF5BC162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3827-24A6-4747-8BEB-378D16A376E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youtube.com/watch?v=rZy6XilXDZQ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youtu.be/iDR1zdT3qBA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Engravers MT"/>
              </a:rPr>
              <a:t>Monarch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Engravers MT"/>
              </a:rPr>
              <a:t>(1066-1485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216-127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King Joh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9 years old but didn’t rule until he came of a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ickle tyr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5" descr="king henry III"/>
          <p:cNvPicPr/>
          <p:nvPr/>
        </p:nvPicPr>
        <p:blipFill>
          <a:blip r:embed="rId2"/>
          <a:stretch/>
        </p:blipFill>
        <p:spPr>
          <a:xfrm>
            <a:off x="5943600" y="175248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272-130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Henry I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de Wales a part of the English realm in 1283 ( gave his son the title Prince of Wale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ginning of Parliament – 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accepted the idea that laws could not be made nor taxes levied without the consent of Parliament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9" descr="king edward I"/>
          <p:cNvPicPr/>
          <p:nvPr/>
        </p:nvPicPr>
        <p:blipFill>
          <a:blip r:embed="rId2"/>
          <a:stretch/>
        </p:blipFill>
        <p:spPr>
          <a:xfrm>
            <a:off x="5867280" y="1752480"/>
            <a:ext cx="2876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307-132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Edward 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Incompetent rul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orced (by Parliament) to give up the throne in 132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7" descr="king edward II"/>
          <p:cNvPicPr/>
          <p:nvPr/>
        </p:nvPicPr>
        <p:blipFill>
          <a:blip r:embed="rId2"/>
          <a:stretch/>
        </p:blipFill>
        <p:spPr>
          <a:xfrm>
            <a:off x="5715000" y="1676520"/>
            <a:ext cx="28954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212760" y="73080"/>
            <a:ext cx="848052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327-1377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Edward 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ginning of Hundred Years War –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 between England and Fra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aimed the French throne 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b/c his mother was the sister of 3 French kin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Plague reduced the nation’s population by 1/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www.youtube.com/watch?v=rZy6XilXDZQ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icture 6" descr="king edward III"/>
          <p:cNvPicPr/>
          <p:nvPr/>
        </p:nvPicPr>
        <p:blipFill>
          <a:blip r:embed="rId3"/>
          <a:stretch/>
        </p:blipFill>
        <p:spPr>
          <a:xfrm>
            <a:off x="6014880" y="1828800"/>
            <a:ext cx="2671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377-139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came king at age 1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vised by uncle, John of Gau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Tyr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ole land from Henry Bolingbroke, son of John of Gau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VERTHROWN; 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died in prison; probably murder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1" name="Picture 5" descr="king richard II"/>
          <p:cNvPicPr/>
          <p:nvPr/>
        </p:nvPicPr>
        <p:blipFill>
          <a:blip r:embed="rId2"/>
          <a:stretch/>
        </p:blipFill>
        <p:spPr>
          <a:xfrm>
            <a:off x="6019920" y="1523880"/>
            <a:ext cx="2666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8467920" cy="1251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399-141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nry Bolingbroke – overthrew Richar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ected by Parlia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reased Parliamentary pow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Picture 5" descr="king henry IV"/>
          <p:cNvPicPr/>
          <p:nvPr/>
        </p:nvPicPr>
        <p:blipFill>
          <a:blip r:embed="rId2"/>
          <a:stretch/>
        </p:blipFill>
        <p:spPr>
          <a:xfrm>
            <a:off x="5715000" y="1752480"/>
            <a:ext cx="2590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413-142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Henry I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rried daughter of Charles VI, King of Fra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orced King Charles to declare him heir to the French crow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7" name="Picture 5" descr="king henry V"/>
          <p:cNvPicPr/>
          <p:nvPr/>
        </p:nvPicPr>
        <p:blipFill>
          <a:blip r:embed="rId2"/>
          <a:stretch/>
        </p:blipFill>
        <p:spPr>
          <a:xfrm>
            <a:off x="5486400" y="1523880"/>
            <a:ext cx="28954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422-146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Henry 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came king when less than a year ol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Weak ruler; attacks of insan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verthrown by Yor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0" name="Picture 5" descr="king henry VI"/>
          <p:cNvPicPr/>
          <p:nvPr/>
        </p:nvPicPr>
        <p:blipFill>
          <a:blip r:embed="rId2"/>
          <a:stretch/>
        </p:blipFill>
        <p:spPr>
          <a:xfrm>
            <a:off x="5867280" y="175248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8467920" cy="1251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1461-1470 then 1471-148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on of Richard, Duke of York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Trebuchet MS"/>
              </a:rPr>
              <a:t>Started War of the Ros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15160" indent="-22608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b050"/>
                </a:solidFill>
                <a:latin typeface="Trebuchet MS"/>
              </a:rPr>
              <a:t>Lancasters = red rose</a:t>
            </a:r>
            <a:endParaRPr b="0" lang="en-US" sz="19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b050"/>
                </a:solidFill>
                <a:latin typeface="Trebuchet MS"/>
              </a:rPr>
              <a:t>Yorks = white rose</a:t>
            </a:r>
            <a:endParaRPr b="0" lang="en-US" sz="1900" spc="-1" strike="noStrike">
              <a:solidFill>
                <a:srgbClr val="6c6c6c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Trebuchet MS"/>
              </a:rPr>
              <a:t>Overthrew Henry VI who fled to Franc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enry VI regained the throne in 147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Trebuchet MS"/>
              </a:rPr>
              <a:t>Edward IV regained power in 1471, killed Henry VI, and paved the way for absolute monarch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youtu.be/iDR1zdT3qB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3" name="Picture 5" descr="king edward IV"/>
          <p:cNvPicPr/>
          <p:nvPr/>
        </p:nvPicPr>
        <p:blipFill>
          <a:blip r:embed="rId3"/>
          <a:stretch/>
        </p:blipFill>
        <p:spPr>
          <a:xfrm>
            <a:off x="5791320" y="1600200"/>
            <a:ext cx="2819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5257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48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Edward I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12 years ol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Aided” by his uncle, Richard I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b639"/>
                </a:solidFill>
                <a:latin typeface="Trebuchet MS"/>
              </a:rPr>
              <a:t>Edward V and his younger brother were locked in the Tower of London and murdered by Richard III’s nob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6" name="Picture 5" descr="king edward V"/>
          <p:cNvPicPr/>
          <p:nvPr/>
        </p:nvPicPr>
        <p:blipFill>
          <a:blip r:embed="rId2"/>
          <a:stretch/>
        </p:blipFill>
        <p:spPr>
          <a:xfrm>
            <a:off x="6553080" y="1828800"/>
            <a:ext cx="167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RMA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066-108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William the Conqueror (duke of Normandy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Defeated Harold, the Saxon king, at the Battle of Hastings (A.D.1066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stituted the Doomsday Book –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(the first census) inventoried nearly every piece of property in Engl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6" descr="william the conqueror"/>
          <p:cNvPicPr/>
          <p:nvPr/>
        </p:nvPicPr>
        <p:blipFill>
          <a:blip r:embed="rId2"/>
          <a:stretch/>
        </p:blipFill>
        <p:spPr>
          <a:xfrm>
            <a:off x="5715000" y="1219320"/>
            <a:ext cx="3048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483-148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ward V’s unc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Became king after having his young nephews murdered in the Tower of Lond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9" name="Picture 5" descr="king richard III"/>
          <p:cNvPicPr/>
          <p:nvPr/>
        </p:nvPicPr>
        <p:blipFill>
          <a:blip r:embed="rId2"/>
          <a:stretch/>
        </p:blipFill>
        <p:spPr>
          <a:xfrm>
            <a:off x="6095880" y="144792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7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87-11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n of Wm. 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Illitera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Power-hungry and viol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Bitter quarrels with Roman Catholic Chur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Killed while hunting; denied Christian buri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10" descr="william II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00-113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ngest son of Wm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ted Saxons and Normans by marrying Matilda who was half Sax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enry I"/>
          <p:cNvPicPr/>
          <p:nvPr/>
        </p:nvPicPr>
        <p:blipFill>
          <a:blip r:embed="rId2"/>
          <a:stretch/>
        </p:blipFill>
        <p:spPr>
          <a:xfrm>
            <a:off x="5334120" y="1295280"/>
            <a:ext cx="3200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35-115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nry’s nephe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*Henry’s daughter (Matilda) was next in line for the throne, but Henry’s barons failed to support her after Henry di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Stephen was forced to recognize Henry, Matilda’s son, as his successo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Picture 5" descr="king stephen"/>
          <p:cNvPicPr/>
          <p:nvPr/>
        </p:nvPicPr>
        <p:blipFill>
          <a:blip r:embed="rId2"/>
          <a:stretch/>
        </p:blipFill>
        <p:spPr>
          <a:xfrm>
            <a:off x="5638680" y="137160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8467920" cy="1251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54-118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nry I’s grandson – son of Matilda, Henry’s daughter, and Geoffrey Plantagene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Motto: “From the devil we sprang, and to the devil we shall go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Introduced trial by ju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d Thomas a Becket murder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5" descr="king henry II"/>
          <p:cNvPicPr/>
          <p:nvPr/>
        </p:nvPicPr>
        <p:blipFill>
          <a:blip r:embed="rId2"/>
          <a:stretch/>
        </p:blipFill>
        <p:spPr>
          <a:xfrm>
            <a:off x="5715000" y="1905120"/>
            <a:ext cx="2666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8049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ing Henry II and Thomas were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omas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lived in luxury and was appointed Chancellor of Engl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1162 King Henry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appointed Thomas Archbishop of Canterbury in hopes of gaining more contro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omas </a:t>
            </a: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took his job seriousl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; refused to take the king’s sid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King commented, “Won’t someone rid me of this turbulent priest?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Four knights murdered Thomas a Becket while he was praying at Canterbury Cathedr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6" descr="thomas a becket"/>
          <p:cNvPicPr/>
          <p:nvPr/>
        </p:nvPicPr>
        <p:blipFill>
          <a:blip r:embed="rId2"/>
          <a:stretch/>
        </p:blipFill>
        <p:spPr>
          <a:xfrm>
            <a:off x="5791320" y="1828800"/>
            <a:ext cx="2057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89-1199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Son of Henry 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Richard the Lionhear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Spent less than 6 months of his 10-year reign in Englan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Performed no real service for the coun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ought in crusades; killed in batt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Picture 6" descr="richard I"/>
          <p:cNvPicPr/>
          <p:nvPr/>
        </p:nvPicPr>
        <p:blipFill>
          <a:blip r:embed="rId2"/>
          <a:stretch/>
        </p:blipFill>
        <p:spPr>
          <a:xfrm>
            <a:off x="6181560" y="1600200"/>
            <a:ext cx="2505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99-121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ngest son of Henry 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Known as England’s worst king (no other king ever named John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Forced to sign the Magna Carta at Runnymede Meado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Beginning of democra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6" descr="king john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095880" y="2057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22:55:45Z</dcterms:created>
  <dc:creator>Bishop</dc:creator>
  <dc:description/>
  <dc:language>en-US</dc:language>
  <cp:lastModifiedBy>pcoles</cp:lastModifiedBy>
  <dcterms:modified xsi:type="dcterms:W3CDTF">2011-10-25T15:09:32Z</dcterms:modified>
  <cp:revision>76</cp:revision>
  <dc:subject/>
  <dc:title>Medieval Period</dc:title>
</cp:coreProperties>
</file>